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2.png" ContentType="image/png"/>
  <Override PartName="/ppt/media/image24.jpeg" ContentType="image/jpeg"/>
  <Override PartName="/ppt/media/image21.gif" ContentType="image/gif"/>
  <Override PartName="/ppt/media/image10.jpeg" ContentType="image/jpeg"/>
  <Override PartName="/ppt/media/image14.png" ContentType="image/png"/>
  <Override PartName="/ppt/media/image19.gif" ContentType="image/gif"/>
  <Override PartName="/ppt/media/image17.jpeg" ContentType="image/jpeg"/>
  <Override PartName="/ppt/media/image8.jpeg" ContentType="image/jpeg"/>
  <Override PartName="/ppt/media/image29.jpeg" ContentType="image/jpeg"/>
  <Override PartName="/ppt/media/image11.gif" ContentType="image/gif"/>
  <Override PartName="/ppt/media/image28.jpeg" ContentType="image/jpeg"/>
  <Override PartName="/ppt/media/image25.gif" ContentType="image/gif"/>
  <Override PartName="/ppt/media/image18.png" ContentType="image/png"/>
  <Override PartName="/ppt/media/image30.gif" ContentType="image/gif"/>
  <Override PartName="/ppt/media/image9.gif" ContentType="image/gif"/>
  <Override PartName="/ppt/media/image34.gif" ContentType="image/gif"/>
  <Override PartName="/ppt/media/image20.jpeg" ContentType="image/jpeg"/>
  <Override PartName="/ppt/media/image31.jpeg" ContentType="image/jpeg"/>
  <Override PartName="/ppt/media/image32.jpeg" ContentType="image/jpeg"/>
  <Override PartName="/ppt/media/image33.gif" ContentType="image/gif"/>
  <Override PartName="/ppt/media/image6.gif" ContentType="image/gif"/>
  <Override PartName="/ppt/media/image7.jpeg" ContentType="image/jpeg"/>
  <Override PartName="/ppt/media/image5.gif" ContentType="image/gif"/>
  <Override PartName="/ppt/media/image35.gif" ContentType="image/gif"/>
  <Override PartName="/ppt/media/image4.png" ContentType="image/png"/>
  <Override PartName="/ppt/media/image3.jpeg" ContentType="image/jpeg"/>
  <Override PartName="/ppt/media/image15.png" ContentType="image/pn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breeze.wav" ContentType="audio/x-wav"/>
  <Override PartName="/ppt/media/image27.jpeg" ContentType="image/jpeg"/>
  <Override PartName="/ppt/media/image1.jpeg" ContentType="image/jpeg"/>
  <Override PartName="/ppt/media/image13.jpeg" ContentType="image/jpeg"/>
  <Override PartName="/ppt/media/image1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5C3E-6279-48B9-9512-2398C5491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1D7B-FDF0-4892-B47C-D6B6B559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7553-ACF3-4B5E-81D9-F3F4ACF73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9D50-9361-45A7-9967-0230569F3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12F6-D0CE-4E08-94B5-D180F30A8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8EAC-5816-49F5-B036-A9827793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CEC4-3532-41E4-B72E-2BA8E740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AD0D-D385-4FE0-A706-9EFAD914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03E6-7DD8-41CF-91FC-01139F4F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EAE9-281D-4472-A6A7-AE54ABBE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4643-CE1C-42DD-9300-A5F6524C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1828-4E08-44CF-87B6-C197BC3A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E6AB-ED54-4255-A427-075BBEF7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D666F-D23D-427F-A52D-1152052E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AA5B-F667-4707-B5E4-012CED32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3C9C-8892-4B13-96E9-DDC5A4A2F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8A9D-E0E1-468F-9DD1-842CA82BE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1E14-C361-419D-BF7F-DFE666F3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9634-60CE-46BD-BB03-9E7DD1DE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196C-F5F0-42DA-BD2C-EB593A4C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A9B8-C43C-40EE-A3AD-C3749BFB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4458-2B96-43A9-8DF1-7F41CA42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7013-2918-464A-B37D-8E1AA840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B6AA-B6AF-42BF-971B-D415845F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63A0-36F8-41F7-A289-FCE75EC3C6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8825-75B0-4966-BF19-A3D47E6C12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4.pn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audio" Target="../media/breeze.wav"/><Relationship Id="rId7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audio" Target="../media/breeze.wav"/><Relationship Id="rId6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gif"/><Relationship Id="rId5" Type="http://schemas.openxmlformats.org/officeDocument/2006/relationships/audio" Target="../media/breeze.wav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25.gif"/><Relationship Id="rId5" Type="http://schemas.openxmlformats.org/officeDocument/2006/relationships/image" Target="../media/image30.gif"/><Relationship Id="rId6" Type="http://schemas.openxmlformats.org/officeDocument/2006/relationships/audio" Target="../media/breeze.wav"/><Relationship Id="rId7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27.jpe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audio" Target="../media/breeze.wav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35.gif"/><Relationship Id="rId5" Type="http://schemas.openxmlformats.org/officeDocument/2006/relationships/image" Target="../media/image36.jpeg"/><Relationship Id="rId6" Type="http://schemas.openxmlformats.org/officeDocument/2006/relationships/audio" Target="../media/breeze.wav"/><Relationship Id="rId7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7.jpe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6.gif"/><Relationship Id="rId8" Type="http://schemas.openxmlformats.org/officeDocument/2006/relationships/audio" Target="../media/breeze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Arial"/>
              </a:rPr>
              <a:t>Atmosphere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ummarize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3580920"/>
            <a:ext cx="3733920" cy="26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’s atmosphere is divided up into layers that are based upon their 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____ layer is found in the stratosp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4120" y="380880"/>
            <a:ext cx="144756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1523880"/>
            <a:ext cx="144792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990720"/>
            <a:ext cx="3429000" cy="21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ease draw and fill In the air composition pie graph to the righ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w and label the 4 layers of the atmosphere, starting with the bottom layer and working your way up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962520" y="3200400"/>
            <a:ext cx="3429000" cy="3505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flipH="1">
            <a:off x="4038480" y="5562720"/>
            <a:ext cx="3200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67480" y="3352680"/>
            <a:ext cx="1676520" cy="3048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4191120"/>
            <a:ext cx="17524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s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z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op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m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itro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% Other stuf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image: pie chart showing that air is made up of nitrogen (78%), oxygen (21%) and other gases (1%)"/>
          <p:cNvPicPr/>
          <p:nvPr/>
        </p:nvPicPr>
        <p:blipFill>
          <a:blip r:embed="rId3"/>
          <a:stretch/>
        </p:blipFill>
        <p:spPr>
          <a:xfrm>
            <a:off x="3809880" y="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657600" y="2438280"/>
            <a:ext cx="1828800" cy="838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4" name="breeze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opic: Atmosphe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know how much radiation form the sun is either absorbed or reflected by our ea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understand how the earth’s transfers heat by convection due to the unequal heating between the equator and po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eat!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ll have a basic understanding of what heat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we touch something hot, it has heat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c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diation is one form of energy, but heat is anther form of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t always wants to move from something hot, to something col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e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Hea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the energy that flow from an object with a higher temperature to an object with a lower 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n object has no heat, this object is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, when radiation is being absorbed by our earth, it heats up through conduction or convection we he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is Heat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67849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Heat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is the energy that flows from an object with a ____temperature to an object with a _____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Heat is transferred through conduction and conv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91520" y="1828800"/>
            <a:ext cx="16002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238880" y="2819520"/>
            <a:ext cx="1752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eq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ltraviol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nduction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he surface of the earth absorbs radiation, causing the molecules to rub into one another – Con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nduction is the transfer of energy that occurs when molecules bump into one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have ever walked  bare feet on hot asphalt, on a hot summer day you know how hot the surface can g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feet heat up because of conduction, that is, hot molecules bump into molecules on your f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ir above the asphalt is heated in exactly the same way, hot asphalt molecules bump into air molecules transferring heat and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is Conduction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3429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onduction is the transfer of energy that occurs when molecules ____ into one an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769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onvection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50292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onvection is the transfer of heat by the flow of a heated mate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occurs with gases and liqu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-360" y="2971440"/>
            <a:ext cx="51814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gases and liquids are warmed, their molecules move apart, increasing its volume and decreasing its density, causing it to ri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tually, gas or liquid will start to cool, causing it to fall back down and the cycle repeats itse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is Convection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701352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onvection is the transfer of heat by the _____of a heated material such as a gas or liq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1228680" cy="936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391520" y="1828800"/>
            <a:ext cx="16002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38880" y="2819520"/>
            <a:ext cx="1752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eq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ltraviol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3" name="breeze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-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nergy in our Atmosphe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114264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diation enters our atmosphere from the s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diation is the transfer of energy in the form of electromagnetic wa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s include: Radio waves, Microwaves, Infrared, Light, X-Rays, UV, and Gamma wa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diation can be harmless or even dangerous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3" name="breez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opic: Atmosphe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know what an atmosphere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know atmospheric com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know how air pressure changes with altitu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know the 4 layers of our atmosphere and that these layers are based upon temperature chang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is Radiation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50324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Radiation is energy in the form of Electromagnetic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Ex: Radio waves, Infrared, Light, X-rays, _____wave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91520" y="1828800"/>
            <a:ext cx="16002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38880" y="2819520"/>
            <a:ext cx="1752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eq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ltraviol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Solar Radiatio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solar radiation is reflected by our atmosphere and some is absorbed as h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-228600" y="2819520"/>
            <a:ext cx="9600840" cy="4343040"/>
            <a:chOff x="-228600" y="2819520"/>
            <a:chExt cx="9600840" cy="4343040"/>
          </a:xfrm>
        </p:grpSpPr>
        <p:sp>
          <p:nvSpPr>
            <p:cNvPr id="165" name=""/>
            <p:cNvSpPr/>
            <p:nvPr/>
          </p:nvSpPr>
          <p:spPr>
            <a:xfrm>
              <a:off x="-228600" y="2819520"/>
              <a:ext cx="9600840" cy="434304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-17640" y="3250440"/>
              <a:ext cx="9181440" cy="348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heel spokes="8"/>
    <p:sndAc>
      <p:stSnd>
        <p:snd r:embed="rId3" name="breeze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-685800" y="3048120"/>
            <a:ext cx="10515600" cy="3504960"/>
          </a:xfrm>
          <a:prstGeom prst="ellipse">
            <a:avLst/>
          </a:prstGeom>
          <a:solidFill>
            <a:srgbClr val="65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-380880" y="4572000"/>
            <a:ext cx="10210680" cy="327672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95680" y="3276720"/>
            <a:ext cx="1295640" cy="533160"/>
          </a:xfrm>
          <a:prstGeom prst="cloudCallout">
            <a:avLst>
              <a:gd name="adj1" fmla="val -21078"/>
              <a:gd name="adj2" fmla="val 342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62720" y="3429000"/>
            <a:ext cx="1523880" cy="533520"/>
          </a:xfrm>
          <a:prstGeom prst="cloudCallout">
            <a:avLst>
              <a:gd name="adj1" fmla="val -31768"/>
              <a:gd name="adj2" fmla="val 291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00600" y="3429000"/>
            <a:ext cx="1295280" cy="533520"/>
          </a:xfrm>
          <a:prstGeom prst="cloudCallout">
            <a:avLst>
              <a:gd name="adj1" fmla="val -21078"/>
              <a:gd name="adj2" fmla="val 485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1676520"/>
            <a:ext cx="1143000" cy="304776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1981080" cy="18288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1676520"/>
            <a:ext cx="838080" cy="312408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762120"/>
            <a:ext cx="4572000" cy="388620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15000" y="762120"/>
            <a:ext cx="3429000" cy="152388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0% radi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the s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228600"/>
            <a:ext cx="6248520" cy="464832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1828800"/>
            <a:ext cx="533160" cy="312408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752480"/>
            <a:ext cx="228600" cy="335304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0" cy="365760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52360" y="4770360"/>
            <a:ext cx="2167200" cy="2579760"/>
          </a:xfrm>
          <a:custGeom>
            <a:avLst/>
            <a:gdLst/>
            <a:ahLst/>
            <a:rect l="l" t="t" r="r" b="b"/>
            <a:pathLst>
              <a:path w="1365" h="1625">
                <a:moveTo>
                  <a:pt x="600" y="27"/>
                </a:moveTo>
                <a:cubicBezTo>
                  <a:pt x="813" y="10"/>
                  <a:pt x="885" y="0"/>
                  <a:pt x="1154" y="27"/>
                </a:cubicBezTo>
                <a:cubicBezTo>
                  <a:pt x="1167" y="28"/>
                  <a:pt x="1167" y="51"/>
                  <a:pt x="1176" y="60"/>
                </a:cubicBezTo>
                <a:cubicBezTo>
                  <a:pt x="1206" y="90"/>
                  <a:pt x="1278" y="117"/>
                  <a:pt x="1317" y="147"/>
                </a:cubicBezTo>
                <a:cubicBezTo>
                  <a:pt x="1365" y="289"/>
                  <a:pt x="1348" y="212"/>
                  <a:pt x="1328" y="473"/>
                </a:cubicBezTo>
                <a:cubicBezTo>
                  <a:pt x="1325" y="509"/>
                  <a:pt x="1252" y="549"/>
                  <a:pt x="1252" y="549"/>
                </a:cubicBezTo>
                <a:cubicBezTo>
                  <a:pt x="1215" y="603"/>
                  <a:pt x="1140" y="612"/>
                  <a:pt x="1100" y="668"/>
                </a:cubicBezTo>
                <a:cubicBezTo>
                  <a:pt x="1069" y="712"/>
                  <a:pt x="1062" y="771"/>
                  <a:pt x="1045" y="821"/>
                </a:cubicBezTo>
                <a:cubicBezTo>
                  <a:pt x="1049" y="890"/>
                  <a:pt x="1045" y="1016"/>
                  <a:pt x="1078" y="1092"/>
                </a:cubicBezTo>
                <a:cubicBezTo>
                  <a:pt x="1090" y="1119"/>
                  <a:pt x="1112" y="1168"/>
                  <a:pt x="1132" y="1190"/>
                </a:cubicBezTo>
                <a:cubicBezTo>
                  <a:pt x="1152" y="1213"/>
                  <a:pt x="1198" y="1255"/>
                  <a:pt x="1198" y="1255"/>
                </a:cubicBezTo>
                <a:cubicBezTo>
                  <a:pt x="1226" y="1349"/>
                  <a:pt x="1180" y="1211"/>
                  <a:pt x="1241" y="1331"/>
                </a:cubicBezTo>
                <a:cubicBezTo>
                  <a:pt x="1251" y="1352"/>
                  <a:pt x="1263" y="1397"/>
                  <a:pt x="1263" y="1397"/>
                </a:cubicBezTo>
                <a:cubicBezTo>
                  <a:pt x="1259" y="1415"/>
                  <a:pt x="1263" y="1436"/>
                  <a:pt x="1252" y="1451"/>
                </a:cubicBezTo>
                <a:cubicBezTo>
                  <a:pt x="1242" y="1464"/>
                  <a:pt x="1222" y="1465"/>
                  <a:pt x="1208" y="1473"/>
                </a:cubicBezTo>
                <a:cubicBezTo>
                  <a:pt x="1173" y="1494"/>
                  <a:pt x="1109" y="1530"/>
                  <a:pt x="1078" y="1560"/>
                </a:cubicBezTo>
                <a:cubicBezTo>
                  <a:pt x="1067" y="1571"/>
                  <a:pt x="1058" y="1585"/>
                  <a:pt x="1045" y="1592"/>
                </a:cubicBezTo>
                <a:cubicBezTo>
                  <a:pt x="1025" y="1603"/>
                  <a:pt x="1002" y="1607"/>
                  <a:pt x="980" y="1614"/>
                </a:cubicBezTo>
                <a:cubicBezTo>
                  <a:pt x="969" y="1618"/>
                  <a:pt x="948" y="1625"/>
                  <a:pt x="948" y="1625"/>
                </a:cubicBezTo>
                <a:cubicBezTo>
                  <a:pt x="857" y="1621"/>
                  <a:pt x="767" y="1620"/>
                  <a:pt x="676" y="1614"/>
                </a:cubicBezTo>
                <a:cubicBezTo>
                  <a:pt x="604" y="1609"/>
                  <a:pt x="546" y="1560"/>
                  <a:pt x="480" y="1538"/>
                </a:cubicBezTo>
                <a:cubicBezTo>
                  <a:pt x="438" y="1495"/>
                  <a:pt x="424" y="1507"/>
                  <a:pt x="383" y="1473"/>
                </a:cubicBezTo>
                <a:cubicBezTo>
                  <a:pt x="297" y="1402"/>
                  <a:pt x="400" y="1473"/>
                  <a:pt x="317" y="1418"/>
                </a:cubicBezTo>
                <a:cubicBezTo>
                  <a:pt x="310" y="1407"/>
                  <a:pt x="305" y="1395"/>
                  <a:pt x="296" y="1386"/>
                </a:cubicBezTo>
                <a:cubicBezTo>
                  <a:pt x="287" y="1377"/>
                  <a:pt x="270" y="1375"/>
                  <a:pt x="263" y="1364"/>
                </a:cubicBezTo>
                <a:cubicBezTo>
                  <a:pt x="251" y="1345"/>
                  <a:pt x="248" y="1321"/>
                  <a:pt x="241" y="1299"/>
                </a:cubicBezTo>
                <a:cubicBezTo>
                  <a:pt x="237" y="1288"/>
                  <a:pt x="230" y="1266"/>
                  <a:pt x="230" y="1266"/>
                </a:cubicBezTo>
                <a:cubicBezTo>
                  <a:pt x="232" y="1246"/>
                  <a:pt x="236" y="1150"/>
                  <a:pt x="252" y="1114"/>
                </a:cubicBezTo>
                <a:cubicBezTo>
                  <a:pt x="288" y="1032"/>
                  <a:pt x="342" y="955"/>
                  <a:pt x="383" y="875"/>
                </a:cubicBezTo>
                <a:cubicBezTo>
                  <a:pt x="410" y="755"/>
                  <a:pt x="372" y="898"/>
                  <a:pt x="415" y="799"/>
                </a:cubicBezTo>
                <a:cubicBezTo>
                  <a:pt x="457" y="701"/>
                  <a:pt x="393" y="803"/>
                  <a:pt x="448" y="723"/>
                </a:cubicBezTo>
                <a:cubicBezTo>
                  <a:pt x="439" y="619"/>
                  <a:pt x="443" y="532"/>
                  <a:pt x="350" y="473"/>
                </a:cubicBezTo>
                <a:cubicBezTo>
                  <a:pt x="296" y="392"/>
                  <a:pt x="180" y="339"/>
                  <a:pt x="89" y="310"/>
                </a:cubicBezTo>
                <a:cubicBezTo>
                  <a:pt x="66" y="303"/>
                  <a:pt x="47" y="285"/>
                  <a:pt x="24" y="277"/>
                </a:cubicBezTo>
                <a:cubicBezTo>
                  <a:pt x="0" y="205"/>
                  <a:pt x="2" y="235"/>
                  <a:pt x="2" y="190"/>
                </a:cubicBezTo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14640" y="4624560"/>
            <a:ext cx="4075200" cy="2984400"/>
          </a:xfrm>
          <a:custGeom>
            <a:avLst/>
            <a:gdLst/>
            <a:ahLst/>
            <a:rect l="l" t="t" r="r" b="b"/>
            <a:pathLst>
              <a:path w="2567" h="1880">
                <a:moveTo>
                  <a:pt x="957" y="0"/>
                </a:moveTo>
                <a:cubicBezTo>
                  <a:pt x="897" y="11"/>
                  <a:pt x="846" y="24"/>
                  <a:pt x="784" y="32"/>
                </a:cubicBezTo>
                <a:cubicBezTo>
                  <a:pt x="718" y="54"/>
                  <a:pt x="655" y="59"/>
                  <a:pt x="588" y="76"/>
                </a:cubicBezTo>
                <a:cubicBezTo>
                  <a:pt x="491" y="100"/>
                  <a:pt x="406" y="120"/>
                  <a:pt x="305" y="130"/>
                </a:cubicBezTo>
                <a:cubicBezTo>
                  <a:pt x="273" y="152"/>
                  <a:pt x="238" y="159"/>
                  <a:pt x="208" y="184"/>
                </a:cubicBezTo>
                <a:cubicBezTo>
                  <a:pt x="122" y="255"/>
                  <a:pt x="225" y="184"/>
                  <a:pt x="142" y="239"/>
                </a:cubicBezTo>
                <a:cubicBezTo>
                  <a:pt x="117" y="277"/>
                  <a:pt x="84" y="291"/>
                  <a:pt x="55" y="326"/>
                </a:cubicBezTo>
                <a:cubicBezTo>
                  <a:pt x="30" y="356"/>
                  <a:pt x="23" y="391"/>
                  <a:pt x="1" y="423"/>
                </a:cubicBezTo>
                <a:cubicBezTo>
                  <a:pt x="5" y="481"/>
                  <a:pt x="0" y="540"/>
                  <a:pt x="12" y="597"/>
                </a:cubicBezTo>
                <a:cubicBezTo>
                  <a:pt x="19" y="632"/>
                  <a:pt x="54" y="630"/>
                  <a:pt x="77" y="641"/>
                </a:cubicBezTo>
                <a:cubicBezTo>
                  <a:pt x="135" y="670"/>
                  <a:pt x="175" y="693"/>
                  <a:pt x="240" y="706"/>
                </a:cubicBezTo>
                <a:cubicBezTo>
                  <a:pt x="354" y="782"/>
                  <a:pt x="183" y="673"/>
                  <a:pt x="316" y="739"/>
                </a:cubicBezTo>
                <a:cubicBezTo>
                  <a:pt x="355" y="758"/>
                  <a:pt x="399" y="790"/>
                  <a:pt x="436" y="815"/>
                </a:cubicBezTo>
                <a:cubicBezTo>
                  <a:pt x="466" y="861"/>
                  <a:pt x="503" y="898"/>
                  <a:pt x="534" y="945"/>
                </a:cubicBezTo>
                <a:cubicBezTo>
                  <a:pt x="541" y="956"/>
                  <a:pt x="555" y="978"/>
                  <a:pt x="555" y="978"/>
                </a:cubicBezTo>
                <a:cubicBezTo>
                  <a:pt x="551" y="1036"/>
                  <a:pt x="550" y="1094"/>
                  <a:pt x="544" y="1152"/>
                </a:cubicBezTo>
                <a:cubicBezTo>
                  <a:pt x="543" y="1163"/>
                  <a:pt x="541" y="1175"/>
                  <a:pt x="534" y="1184"/>
                </a:cubicBezTo>
                <a:cubicBezTo>
                  <a:pt x="526" y="1194"/>
                  <a:pt x="511" y="1198"/>
                  <a:pt x="501" y="1206"/>
                </a:cubicBezTo>
                <a:cubicBezTo>
                  <a:pt x="471" y="1231"/>
                  <a:pt x="471" y="1244"/>
                  <a:pt x="436" y="1260"/>
                </a:cubicBezTo>
                <a:cubicBezTo>
                  <a:pt x="301" y="1320"/>
                  <a:pt x="442" y="1236"/>
                  <a:pt x="305" y="1325"/>
                </a:cubicBezTo>
                <a:cubicBezTo>
                  <a:pt x="222" y="1379"/>
                  <a:pt x="179" y="1477"/>
                  <a:pt x="99" y="1532"/>
                </a:cubicBezTo>
                <a:cubicBezTo>
                  <a:pt x="91" y="1555"/>
                  <a:pt x="67" y="1573"/>
                  <a:pt x="66" y="1597"/>
                </a:cubicBezTo>
                <a:cubicBezTo>
                  <a:pt x="63" y="1666"/>
                  <a:pt x="63" y="1736"/>
                  <a:pt x="77" y="1804"/>
                </a:cubicBezTo>
                <a:cubicBezTo>
                  <a:pt x="79" y="1815"/>
                  <a:pt x="100" y="1810"/>
                  <a:pt x="110" y="1815"/>
                </a:cubicBezTo>
                <a:cubicBezTo>
                  <a:pt x="201" y="1860"/>
                  <a:pt x="170" y="1866"/>
                  <a:pt x="284" y="1880"/>
                </a:cubicBezTo>
                <a:cubicBezTo>
                  <a:pt x="412" y="1866"/>
                  <a:pt x="349" y="1877"/>
                  <a:pt x="468" y="1847"/>
                </a:cubicBezTo>
                <a:cubicBezTo>
                  <a:pt x="483" y="1843"/>
                  <a:pt x="512" y="1836"/>
                  <a:pt x="512" y="1836"/>
                </a:cubicBezTo>
                <a:cubicBezTo>
                  <a:pt x="655" y="1742"/>
                  <a:pt x="949" y="1721"/>
                  <a:pt x="1110" y="1717"/>
                </a:cubicBezTo>
                <a:cubicBezTo>
                  <a:pt x="1349" y="1711"/>
                  <a:pt x="1588" y="1710"/>
                  <a:pt x="1827" y="1706"/>
                </a:cubicBezTo>
                <a:cubicBezTo>
                  <a:pt x="1874" y="1674"/>
                  <a:pt x="1929" y="1666"/>
                  <a:pt x="1979" y="1641"/>
                </a:cubicBezTo>
                <a:cubicBezTo>
                  <a:pt x="2055" y="1603"/>
                  <a:pt x="1965" y="1631"/>
                  <a:pt x="2055" y="1608"/>
                </a:cubicBezTo>
                <a:cubicBezTo>
                  <a:pt x="2108" y="1573"/>
                  <a:pt x="2151" y="1549"/>
                  <a:pt x="2207" y="1521"/>
                </a:cubicBezTo>
                <a:cubicBezTo>
                  <a:pt x="2244" y="1502"/>
                  <a:pt x="2272" y="1469"/>
                  <a:pt x="2305" y="1445"/>
                </a:cubicBezTo>
                <a:cubicBezTo>
                  <a:pt x="2453" y="1338"/>
                  <a:pt x="2257" y="1479"/>
                  <a:pt x="2381" y="1380"/>
                </a:cubicBezTo>
                <a:cubicBezTo>
                  <a:pt x="2405" y="1360"/>
                  <a:pt x="2457" y="1325"/>
                  <a:pt x="2457" y="1325"/>
                </a:cubicBezTo>
                <a:cubicBezTo>
                  <a:pt x="2482" y="1251"/>
                  <a:pt x="2448" y="1344"/>
                  <a:pt x="2501" y="1239"/>
                </a:cubicBezTo>
                <a:cubicBezTo>
                  <a:pt x="2528" y="1187"/>
                  <a:pt x="2551" y="1122"/>
                  <a:pt x="2566" y="1065"/>
                </a:cubicBezTo>
                <a:cubicBezTo>
                  <a:pt x="2563" y="1033"/>
                  <a:pt x="2567" y="947"/>
                  <a:pt x="2544" y="902"/>
                </a:cubicBezTo>
                <a:cubicBezTo>
                  <a:pt x="2521" y="856"/>
                  <a:pt x="2507" y="859"/>
                  <a:pt x="2457" y="826"/>
                </a:cubicBezTo>
                <a:cubicBezTo>
                  <a:pt x="2369" y="768"/>
                  <a:pt x="2382" y="759"/>
                  <a:pt x="2294" y="739"/>
                </a:cubicBezTo>
                <a:cubicBezTo>
                  <a:pt x="2215" y="685"/>
                  <a:pt x="2079" y="676"/>
                  <a:pt x="1990" y="673"/>
                </a:cubicBezTo>
                <a:cubicBezTo>
                  <a:pt x="1823" y="668"/>
                  <a:pt x="1657" y="666"/>
                  <a:pt x="1490" y="663"/>
                </a:cubicBezTo>
                <a:cubicBezTo>
                  <a:pt x="1417" y="655"/>
                  <a:pt x="1345" y="648"/>
                  <a:pt x="1273" y="630"/>
                </a:cubicBezTo>
                <a:cubicBezTo>
                  <a:pt x="1258" y="608"/>
                  <a:pt x="1225" y="591"/>
                  <a:pt x="1229" y="565"/>
                </a:cubicBezTo>
                <a:cubicBezTo>
                  <a:pt x="1244" y="478"/>
                  <a:pt x="1243" y="464"/>
                  <a:pt x="1294" y="402"/>
                </a:cubicBezTo>
                <a:cubicBezTo>
                  <a:pt x="1329" y="360"/>
                  <a:pt x="1311" y="347"/>
                  <a:pt x="1360" y="315"/>
                </a:cubicBezTo>
                <a:cubicBezTo>
                  <a:pt x="1400" y="183"/>
                  <a:pt x="1453" y="223"/>
                  <a:pt x="1620" y="217"/>
                </a:cubicBezTo>
                <a:cubicBezTo>
                  <a:pt x="1772" y="212"/>
                  <a:pt x="1925" y="210"/>
                  <a:pt x="2077" y="206"/>
                </a:cubicBezTo>
                <a:cubicBezTo>
                  <a:pt x="2081" y="195"/>
                  <a:pt x="2083" y="183"/>
                  <a:pt x="2088" y="173"/>
                </a:cubicBezTo>
                <a:cubicBezTo>
                  <a:pt x="2094" y="162"/>
                  <a:pt x="2112" y="153"/>
                  <a:pt x="2109" y="141"/>
                </a:cubicBezTo>
                <a:cubicBezTo>
                  <a:pt x="2106" y="130"/>
                  <a:pt x="2088" y="134"/>
                  <a:pt x="2077" y="130"/>
                </a:cubicBezTo>
                <a:cubicBezTo>
                  <a:pt x="2053" y="94"/>
                  <a:pt x="2055" y="110"/>
                  <a:pt x="2055" y="87"/>
                </a:cubicBezTo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05920" y="5029200"/>
            <a:ext cx="1017360" cy="1089000"/>
          </a:xfrm>
          <a:custGeom>
            <a:avLst/>
            <a:gdLst/>
            <a:ahLst/>
            <a:rect l="l" t="t" r="r" b="b"/>
            <a:pathLst>
              <a:path w="641" h="686">
                <a:moveTo>
                  <a:pt x="13" y="0"/>
                </a:moveTo>
                <a:cubicBezTo>
                  <a:pt x="18" y="98"/>
                  <a:pt x="0" y="201"/>
                  <a:pt x="34" y="293"/>
                </a:cubicBezTo>
                <a:cubicBezTo>
                  <a:pt x="38" y="304"/>
                  <a:pt x="55" y="303"/>
                  <a:pt x="67" y="304"/>
                </a:cubicBezTo>
                <a:cubicBezTo>
                  <a:pt x="114" y="310"/>
                  <a:pt x="161" y="311"/>
                  <a:pt x="208" y="315"/>
                </a:cubicBezTo>
                <a:cubicBezTo>
                  <a:pt x="219" y="319"/>
                  <a:pt x="233" y="318"/>
                  <a:pt x="241" y="326"/>
                </a:cubicBezTo>
                <a:cubicBezTo>
                  <a:pt x="298" y="383"/>
                  <a:pt x="200" y="343"/>
                  <a:pt x="284" y="369"/>
                </a:cubicBezTo>
                <a:cubicBezTo>
                  <a:pt x="300" y="447"/>
                  <a:pt x="268" y="540"/>
                  <a:pt x="339" y="587"/>
                </a:cubicBezTo>
                <a:cubicBezTo>
                  <a:pt x="367" y="630"/>
                  <a:pt x="386" y="639"/>
                  <a:pt x="436" y="652"/>
                </a:cubicBezTo>
                <a:cubicBezTo>
                  <a:pt x="485" y="685"/>
                  <a:pt x="496" y="686"/>
                  <a:pt x="556" y="674"/>
                </a:cubicBezTo>
                <a:cubicBezTo>
                  <a:pt x="570" y="632"/>
                  <a:pt x="597" y="602"/>
                  <a:pt x="621" y="565"/>
                </a:cubicBezTo>
                <a:cubicBezTo>
                  <a:pt x="641" y="465"/>
                  <a:pt x="640" y="357"/>
                  <a:pt x="567" y="282"/>
                </a:cubicBezTo>
                <a:cubicBezTo>
                  <a:pt x="556" y="251"/>
                  <a:pt x="534" y="228"/>
                  <a:pt x="534" y="196"/>
                </a:cubicBezTo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-228600" y="5410080"/>
            <a:ext cx="1095480" cy="1479600"/>
          </a:xfrm>
          <a:custGeom>
            <a:avLst/>
            <a:gdLst/>
            <a:ahLst/>
            <a:rect l="l" t="t" r="r" b="b"/>
            <a:pathLst>
              <a:path w="690" h="932">
                <a:moveTo>
                  <a:pt x="299" y="0"/>
                </a:moveTo>
                <a:cubicBezTo>
                  <a:pt x="307" y="100"/>
                  <a:pt x="295" y="136"/>
                  <a:pt x="343" y="206"/>
                </a:cubicBezTo>
                <a:cubicBezTo>
                  <a:pt x="354" y="242"/>
                  <a:pt x="348" y="318"/>
                  <a:pt x="386" y="337"/>
                </a:cubicBezTo>
                <a:cubicBezTo>
                  <a:pt x="428" y="358"/>
                  <a:pt x="480" y="352"/>
                  <a:pt x="527" y="359"/>
                </a:cubicBezTo>
                <a:cubicBezTo>
                  <a:pt x="575" y="375"/>
                  <a:pt x="588" y="374"/>
                  <a:pt x="603" y="424"/>
                </a:cubicBezTo>
                <a:cubicBezTo>
                  <a:pt x="609" y="587"/>
                  <a:pt x="568" y="689"/>
                  <a:pt x="647" y="804"/>
                </a:cubicBezTo>
                <a:cubicBezTo>
                  <a:pt x="690" y="932"/>
                  <a:pt x="616" y="893"/>
                  <a:pt x="495" y="902"/>
                </a:cubicBezTo>
                <a:cubicBezTo>
                  <a:pt x="440" y="891"/>
                  <a:pt x="413" y="869"/>
                  <a:pt x="364" y="848"/>
                </a:cubicBezTo>
                <a:cubicBezTo>
                  <a:pt x="294" y="819"/>
                  <a:pt x="207" y="820"/>
                  <a:pt x="136" y="815"/>
                </a:cubicBezTo>
                <a:cubicBezTo>
                  <a:pt x="82" y="778"/>
                  <a:pt x="112" y="804"/>
                  <a:pt x="60" y="728"/>
                </a:cubicBezTo>
                <a:cubicBezTo>
                  <a:pt x="53" y="717"/>
                  <a:pt x="38" y="696"/>
                  <a:pt x="38" y="696"/>
                </a:cubicBezTo>
                <a:cubicBezTo>
                  <a:pt x="42" y="605"/>
                  <a:pt x="45" y="515"/>
                  <a:pt x="49" y="424"/>
                </a:cubicBezTo>
                <a:cubicBezTo>
                  <a:pt x="55" y="295"/>
                  <a:pt x="0" y="173"/>
                  <a:pt x="125" y="141"/>
                </a:cubicBezTo>
                <a:cubicBezTo>
                  <a:pt x="136" y="134"/>
                  <a:pt x="150" y="130"/>
                  <a:pt x="158" y="120"/>
                </a:cubicBezTo>
                <a:cubicBezTo>
                  <a:pt x="165" y="111"/>
                  <a:pt x="161" y="95"/>
                  <a:pt x="169" y="87"/>
                </a:cubicBezTo>
                <a:cubicBezTo>
                  <a:pt x="202" y="54"/>
                  <a:pt x="259" y="28"/>
                  <a:pt x="299" y="0"/>
                </a:cubicBez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14600" y="3276720"/>
            <a:ext cx="1676520" cy="533160"/>
          </a:xfrm>
          <a:prstGeom prst="cloudCallout">
            <a:avLst>
              <a:gd name="adj1" fmla="val 18087"/>
              <a:gd name="adj2" fmla="val 2529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33920" y="3276720"/>
            <a:ext cx="1295280" cy="533160"/>
          </a:xfrm>
          <a:prstGeom prst="cloudCallout">
            <a:avLst>
              <a:gd name="adj1" fmla="val 32106"/>
              <a:gd name="adj2" fmla="val 315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81080" y="1066680"/>
            <a:ext cx="3276720" cy="350532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05120" y="1295280"/>
            <a:ext cx="2361960" cy="327672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52480" y="1523880"/>
            <a:ext cx="1676520" cy="312444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81480" y="304920"/>
            <a:ext cx="3810240" cy="205740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% radi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bsorbed by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face, land and s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 is converted to h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380880"/>
            <a:ext cx="3886200" cy="304812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380880"/>
            <a:ext cx="2895480" cy="320040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304920"/>
            <a:ext cx="1676520" cy="342900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05520" y="0"/>
            <a:ext cx="3886200" cy="213372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% radi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bsorbed by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mosphere &amp; Clou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 is converted to h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0"/>
            <a:ext cx="5257800" cy="236232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% is reflec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k into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10% by clouds &amp; atmosphe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-20% by land &amp; se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762120"/>
            <a:ext cx="1600200" cy="281916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257800" y="685800"/>
            <a:ext cx="1752480" cy="266688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762120"/>
            <a:ext cx="4419720" cy="259056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762120"/>
            <a:ext cx="2895480" cy="259056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09880" y="609120"/>
            <a:ext cx="2057400" cy="266724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590920" y="380520"/>
            <a:ext cx="2209680" cy="3048120"/>
          </a:xfrm>
          <a:prstGeom prst="line">
            <a:avLst/>
          </a:prstGeom>
          <a:ln w="475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4" repeatCount="indefinite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4" repeatCount="indefinite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4" repeatCount="indefinite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What happens to incoming solar Radiation from the sun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-228960" y="1752480"/>
            <a:ext cx="762012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If 100 % is entering our atmosphere th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__% is absorbed by land and se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__% is absorbed by the atmosphere and clou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__% is reflected back into space by our atmosphere(5%), clouds(20%), and the land sea surface(5%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91520" y="1828800"/>
            <a:ext cx="16002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238880" y="2819520"/>
            <a:ext cx="1752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eq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ltraviol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Unequal Heatin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581280" cy="64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un heats up our earth unequally or unev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ar radiation is strongest or most intense at the equ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ar Radiation is weakest and more spread out at the po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creates a temperature imbalance—hot equator and cold po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505320" y="1066680"/>
            <a:ext cx="5943600" cy="4856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3" name="breeze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-457200" y="0"/>
            <a:ext cx="10820520" cy="74106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337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equal Heating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lash light demo: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3" name="breeze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Where is Solar Radiation the Strongest?</a:t>
            </a:r>
            <a:br>
              <a:rPr sz="3600"/>
            </a:b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Where is Solar Radiation the Weakest?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914400" y="1494000"/>
            <a:ext cx="7620120" cy="5325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914400" y="6248520"/>
            <a:ext cx="106668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3886200"/>
            <a:ext cx="106668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14400" y="1447920"/>
            <a:ext cx="106668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3" name="breeze.wav"/>
      </p:stSnd>
    </p:sndAc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2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Heat Transfer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162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Our earth moves heat from the equator to the poles by  means of convection and conduction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s a result, our wind and weather develop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114800" y="3200400"/>
            <a:ext cx="2819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v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5181480" cy="47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e earth is heated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______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y radiation from the s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onvection is the transfer of heat from the _____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(warm region)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to the ____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(cold reg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Wind and ______develops as a result of this heat trans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0"/>
            <a:ext cx="851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How does earth transfer heat from the equator to the po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62920" y="1828800"/>
            <a:ext cx="16002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010280" y="2819520"/>
            <a:ext cx="1752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eq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ltraviol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648320" y="2133720"/>
            <a:ext cx="3047760" cy="1371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% is reflect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ck into 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6019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he earth is heated 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a result, convection transfers heat from the ______ to the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drives our ____and wea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133720"/>
            <a:ext cx="3048120" cy="1371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 is absorb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 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33720" y="2590920"/>
            <a:ext cx="3047760" cy="1371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% is absorb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 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3238560" y="2399760"/>
            <a:ext cx="609480" cy="381240"/>
          </a:xfrm>
          <a:prstGeom prst="leftArrow">
            <a:avLst>
              <a:gd name="adj1" fmla="val 50000"/>
              <a:gd name="adj2" fmla="val 39967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8290400">
            <a:off x="1906560" y="1979280"/>
            <a:ext cx="698400" cy="396720"/>
          </a:xfrm>
          <a:prstGeom prst="leftArrow">
            <a:avLst>
              <a:gd name="adj1" fmla="val 50000"/>
              <a:gd name="adj2" fmla="val 44011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4041800">
            <a:off x="4648320" y="1905120"/>
            <a:ext cx="838080" cy="380880"/>
          </a:xfrm>
          <a:prstGeom prst="leftArrow">
            <a:avLst>
              <a:gd name="adj1" fmla="val 50000"/>
              <a:gd name="adj2" fmla="val 55009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838080"/>
            <a:ext cx="3124080" cy="1447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% solar radi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the s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3429000"/>
            <a:ext cx="2362320" cy="228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629400" y="3429000"/>
            <a:ext cx="21733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nd &amp; s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eq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mosphere &amp; clou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-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tmosphe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imply put, an atmosphere is a mixture of gases that surrounds a pla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Below is earth’s thin atmosphere and Mar’s thin Carbon Dioxide rich atmosp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Our Atmosphere keeps us warm; without it, our planet would be a lot coo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3519360"/>
            <a:ext cx="4572000" cy="3492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572000" y="3630600"/>
            <a:ext cx="4572000" cy="3227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4" name="breeze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opic: Wind system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know the difference between sea and land breez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understand the coriolis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know the difference between he global wind patt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aily Wind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d and Water absorb heat differen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ing the day land heats up faster than water through conduction, causing the air above it to r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d air over the ocean fills in, creating a convection cur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creates a wind that flows from the Sea to Land – A sea Bree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676520" y="3048120"/>
            <a:ext cx="6858000" cy="38527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2133720" y="32004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4" name="breeze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a Breez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0556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the day a sea breeze develops due to Uneven heating of land and water during the day; wind moves from water to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371600" y="3200400"/>
            <a:ext cx="5715000" cy="3522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3" name="breeze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nd Breez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560" y="761760"/>
            <a:ext cx="830556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the night, the opposite happens, and a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land breez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velops due to Uneven heating of land and water; wind moves from water to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600200" y="3524400"/>
            <a:ext cx="5486400" cy="3333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3" name="breeze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What is the difference between a Sea and Land breeze?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7242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a Breez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velops during the _____ due to uneven heating of land and water; wind moves from water to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Land Breez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velops at ____due to uneven heating of land and water; wind moves from land to 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1676520"/>
            <a:ext cx="1600200" cy="1904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391520" y="1752480"/>
            <a:ext cx="17524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e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4572000" cy="44373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4495680" y="1676520"/>
            <a:ext cx="4648320" cy="4437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0" y="3728880"/>
            <a:ext cx="4537080" cy="308160"/>
          </a:xfrm>
          <a:custGeom>
            <a:avLst/>
            <a:gdLst/>
            <a:ahLst/>
            <a:rect l="l" t="t" r="r" b="b"/>
            <a:pathLst>
              <a:path w="2858" h="194">
                <a:moveTo>
                  <a:pt x="0" y="29"/>
                </a:moveTo>
                <a:cubicBezTo>
                  <a:pt x="55" y="65"/>
                  <a:pt x="109" y="101"/>
                  <a:pt x="234" y="125"/>
                </a:cubicBezTo>
                <a:cubicBezTo>
                  <a:pt x="359" y="149"/>
                  <a:pt x="616" y="163"/>
                  <a:pt x="748" y="173"/>
                </a:cubicBezTo>
                <a:cubicBezTo>
                  <a:pt x="881" y="183"/>
                  <a:pt x="941" y="180"/>
                  <a:pt x="1031" y="183"/>
                </a:cubicBezTo>
                <a:cubicBezTo>
                  <a:pt x="1121" y="186"/>
                  <a:pt x="1204" y="189"/>
                  <a:pt x="1286" y="190"/>
                </a:cubicBezTo>
                <a:cubicBezTo>
                  <a:pt x="1369" y="191"/>
                  <a:pt x="1408" y="194"/>
                  <a:pt x="1527" y="190"/>
                </a:cubicBezTo>
                <a:cubicBezTo>
                  <a:pt x="1646" y="186"/>
                  <a:pt x="1842" y="179"/>
                  <a:pt x="2001" y="168"/>
                </a:cubicBezTo>
                <a:cubicBezTo>
                  <a:pt x="2160" y="157"/>
                  <a:pt x="2370" y="136"/>
                  <a:pt x="2479" y="125"/>
                </a:cubicBezTo>
                <a:cubicBezTo>
                  <a:pt x="2588" y="114"/>
                  <a:pt x="2609" y="111"/>
                  <a:pt x="2658" y="101"/>
                </a:cubicBezTo>
                <a:cubicBezTo>
                  <a:pt x="2706" y="91"/>
                  <a:pt x="2741" y="80"/>
                  <a:pt x="2774" y="63"/>
                </a:cubicBezTo>
                <a:cubicBezTo>
                  <a:pt x="2807" y="46"/>
                  <a:pt x="2841" y="13"/>
                  <a:pt x="2858" y="0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30600" y="3763800"/>
            <a:ext cx="4613400" cy="273240"/>
          </a:xfrm>
          <a:custGeom>
            <a:avLst/>
            <a:gdLst/>
            <a:ahLst/>
            <a:rect l="l" t="t" r="r" b="b"/>
            <a:pathLst>
              <a:path w="2906" h="172">
                <a:moveTo>
                  <a:pt x="0" y="7"/>
                </a:moveTo>
                <a:cubicBezTo>
                  <a:pt x="56" y="43"/>
                  <a:pt x="112" y="79"/>
                  <a:pt x="240" y="103"/>
                </a:cubicBezTo>
                <a:cubicBezTo>
                  <a:pt x="368" y="127"/>
                  <a:pt x="632" y="141"/>
                  <a:pt x="768" y="151"/>
                </a:cubicBezTo>
                <a:cubicBezTo>
                  <a:pt x="904" y="161"/>
                  <a:pt x="966" y="158"/>
                  <a:pt x="1058" y="161"/>
                </a:cubicBezTo>
                <a:cubicBezTo>
                  <a:pt x="1150" y="164"/>
                  <a:pt x="1235" y="167"/>
                  <a:pt x="1320" y="168"/>
                </a:cubicBezTo>
                <a:cubicBezTo>
                  <a:pt x="1405" y="169"/>
                  <a:pt x="1445" y="172"/>
                  <a:pt x="1567" y="168"/>
                </a:cubicBezTo>
                <a:cubicBezTo>
                  <a:pt x="1689" y="164"/>
                  <a:pt x="1890" y="157"/>
                  <a:pt x="2053" y="146"/>
                </a:cubicBezTo>
                <a:cubicBezTo>
                  <a:pt x="2216" y="135"/>
                  <a:pt x="2429" y="115"/>
                  <a:pt x="2544" y="103"/>
                </a:cubicBezTo>
                <a:cubicBezTo>
                  <a:pt x="2659" y="91"/>
                  <a:pt x="2702" y="82"/>
                  <a:pt x="2741" y="75"/>
                </a:cubicBezTo>
                <a:cubicBezTo>
                  <a:pt x="2780" y="68"/>
                  <a:pt x="2762" y="66"/>
                  <a:pt x="2779" y="60"/>
                </a:cubicBezTo>
                <a:cubicBezTo>
                  <a:pt x="2796" y="54"/>
                  <a:pt x="2825" y="51"/>
                  <a:pt x="2846" y="41"/>
                </a:cubicBezTo>
                <a:cubicBezTo>
                  <a:pt x="2867" y="31"/>
                  <a:pt x="2894" y="9"/>
                  <a:pt x="2906" y="0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362320" y="1904760"/>
            <a:ext cx="0" cy="2057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14400" y="7632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e moving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ve in a straight 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2971800"/>
            <a:ext cx="13716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362320" y="4114800"/>
            <a:ext cx="0" cy="198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590560" y="4952880"/>
            <a:ext cx="14475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781680" y="1981080"/>
            <a:ext cx="851040" cy="1981440"/>
          </a:xfrm>
          <a:custGeom>
            <a:avLst/>
            <a:gdLst/>
            <a:ahLst/>
            <a:rect l="l" t="t" r="r" b="b"/>
            <a:pathLst>
              <a:path w="536" h="1248">
                <a:moveTo>
                  <a:pt x="8" y="1248"/>
                </a:moveTo>
                <a:cubicBezTo>
                  <a:pt x="4" y="1108"/>
                  <a:pt x="0" y="968"/>
                  <a:pt x="8" y="864"/>
                </a:cubicBezTo>
                <a:cubicBezTo>
                  <a:pt x="16" y="760"/>
                  <a:pt x="16" y="728"/>
                  <a:pt x="56" y="624"/>
                </a:cubicBezTo>
                <a:cubicBezTo>
                  <a:pt x="96" y="520"/>
                  <a:pt x="184" y="336"/>
                  <a:pt x="248" y="240"/>
                </a:cubicBezTo>
                <a:cubicBezTo>
                  <a:pt x="312" y="144"/>
                  <a:pt x="392" y="88"/>
                  <a:pt x="440" y="48"/>
                </a:cubicBezTo>
                <a:cubicBezTo>
                  <a:pt x="488" y="8"/>
                  <a:pt x="520" y="8"/>
                  <a:pt x="536" y="0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4038480"/>
            <a:ext cx="4419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n-Rotating Ear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6781680" y="4114800"/>
            <a:ext cx="698760" cy="1752480"/>
          </a:xfrm>
          <a:custGeom>
            <a:avLst/>
            <a:gdLst/>
            <a:ahLst/>
            <a:rect l="l" t="t" r="r" b="b"/>
            <a:pathLst>
              <a:path w="536" h="1248">
                <a:moveTo>
                  <a:pt x="8" y="1248"/>
                </a:moveTo>
                <a:cubicBezTo>
                  <a:pt x="4" y="1108"/>
                  <a:pt x="0" y="968"/>
                  <a:pt x="8" y="864"/>
                </a:cubicBezTo>
                <a:cubicBezTo>
                  <a:pt x="16" y="760"/>
                  <a:pt x="16" y="728"/>
                  <a:pt x="56" y="624"/>
                </a:cubicBezTo>
                <a:cubicBezTo>
                  <a:pt x="96" y="520"/>
                  <a:pt x="184" y="336"/>
                  <a:pt x="248" y="240"/>
                </a:cubicBezTo>
                <a:cubicBezTo>
                  <a:pt x="312" y="144"/>
                  <a:pt x="392" y="88"/>
                  <a:pt x="440" y="48"/>
                </a:cubicBezTo>
                <a:cubicBezTo>
                  <a:pt x="488" y="8"/>
                  <a:pt x="520" y="8"/>
                  <a:pt x="536" y="0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334120" y="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e moving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ve in a curved 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181480" y="2666880"/>
            <a:ext cx="1295640" cy="381240"/>
          </a:xfrm>
          <a:custGeom>
            <a:avLst/>
            <a:gdLst/>
            <a:ahLst/>
            <a:rect l="l" t="t" r="r" b="b"/>
            <a:pathLst>
              <a:path w="816" h="200">
                <a:moveTo>
                  <a:pt x="0" y="8"/>
                </a:moveTo>
                <a:cubicBezTo>
                  <a:pt x="72" y="4"/>
                  <a:pt x="144" y="0"/>
                  <a:pt x="240" y="8"/>
                </a:cubicBezTo>
                <a:cubicBezTo>
                  <a:pt x="336" y="16"/>
                  <a:pt x="480" y="24"/>
                  <a:pt x="576" y="56"/>
                </a:cubicBezTo>
                <a:cubicBezTo>
                  <a:pt x="672" y="88"/>
                  <a:pt x="776" y="176"/>
                  <a:pt x="816" y="200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7238160" y="4876920"/>
            <a:ext cx="1219320" cy="304560"/>
          </a:xfrm>
          <a:custGeom>
            <a:avLst/>
            <a:gdLst/>
            <a:ahLst/>
            <a:rect l="l" t="t" r="r" b="b"/>
            <a:pathLst>
              <a:path w="816" h="200">
                <a:moveTo>
                  <a:pt x="0" y="8"/>
                </a:moveTo>
                <a:cubicBezTo>
                  <a:pt x="72" y="4"/>
                  <a:pt x="144" y="0"/>
                  <a:pt x="240" y="8"/>
                </a:cubicBezTo>
                <a:cubicBezTo>
                  <a:pt x="336" y="16"/>
                  <a:pt x="480" y="24"/>
                  <a:pt x="576" y="56"/>
                </a:cubicBezTo>
                <a:cubicBezTo>
                  <a:pt x="672" y="88"/>
                  <a:pt x="776" y="176"/>
                  <a:pt x="816" y="200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48320" y="4038480"/>
            <a:ext cx="4419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otating Ear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800600" y="838080"/>
            <a:ext cx="434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In the northern hemisphere objec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are deflected or curve to the r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5791320"/>
            <a:ext cx="434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In the southern hemisphere objec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are deflected or curve to the le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4" name="breeze.wav"/>
      </p:stSnd>
    </p:sndAc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77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4" dur="770" fill="hold"/>
                                        <p:tgtEl>
                                          <p:spTgt spid="2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6" dur="77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8" dur="77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77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3" dur="770" fill="hold"/>
                                        <p:tgtEl>
                                          <p:spTgt spid="2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5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7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3288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is the Coriolis Effect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63244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e effect created by the ______earth that deflects all free moving objects such as air and water to the ____north of the equator (Northern Hemisphere) and to the ____ south of the equator (Southern Hemisphere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467480" y="1905120"/>
            <a:ext cx="16002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391520" y="2895480"/>
            <a:ext cx="17524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in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1600560" y="380880"/>
            <a:ext cx="65530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Global Wind</a:t>
            </a: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atter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240" y="2057040"/>
            <a:ext cx="3352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just learned that earth transfers heat from the equator to the poles by conv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01680" y="4416480"/>
            <a:ext cx="8842320" cy="24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it turn's out, our earth has predictable wind patterns that form convection cells, moving heat from the equator, all the way to the po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are the prevailing wind patter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657600" y="-144360"/>
            <a:ext cx="571500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3" name="breeze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9144000" cy="68072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 rot="1520400">
            <a:off x="1523520" y="3429000"/>
            <a:ext cx="1143000" cy="4287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228600" y="2133720"/>
            <a:ext cx="19051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ldru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t air ri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equ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0" y="3276720"/>
            <a:ext cx="685800" cy="266760"/>
          </a:xfrm>
          <a:custGeom>
            <a:avLst/>
            <a:gdLst/>
            <a:ahLst/>
            <a:rect l="l" t="t" r="r" b="b"/>
            <a:pathLst>
              <a:path w="384" h="168">
                <a:moveTo>
                  <a:pt x="384" y="144"/>
                </a:moveTo>
                <a:cubicBezTo>
                  <a:pt x="296" y="156"/>
                  <a:pt x="208" y="168"/>
                  <a:pt x="144" y="144"/>
                </a:cubicBezTo>
                <a:cubicBezTo>
                  <a:pt x="80" y="120"/>
                  <a:pt x="24" y="24"/>
                  <a:pt x="0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286000" y="3885480"/>
            <a:ext cx="685800" cy="190440"/>
          </a:xfrm>
          <a:custGeom>
            <a:avLst/>
            <a:gdLst/>
            <a:ahLst/>
            <a:rect l="l" t="t" r="r" b="b"/>
            <a:pathLst>
              <a:path w="384" h="168">
                <a:moveTo>
                  <a:pt x="384" y="144"/>
                </a:moveTo>
                <a:cubicBezTo>
                  <a:pt x="296" y="156"/>
                  <a:pt x="208" y="168"/>
                  <a:pt x="144" y="144"/>
                </a:cubicBezTo>
                <a:cubicBezTo>
                  <a:pt x="80" y="120"/>
                  <a:pt x="24" y="24"/>
                  <a:pt x="0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6320" y="914400"/>
            <a:ext cx="2895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wi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0-3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latit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low from east to w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52280" y="228600"/>
            <a:ext cx="2895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er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30-6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latit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low from west to ea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152280"/>
            <a:ext cx="2895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ter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60-9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latit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low from west to ea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 rot="221400">
            <a:off x="3733920" y="380520"/>
            <a:ext cx="1143000" cy="4287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362320" y="2133720"/>
            <a:ext cx="838080" cy="990360"/>
          </a:xfrm>
          <a:custGeom>
            <a:avLst/>
            <a:gdLst/>
            <a:ahLst/>
            <a:rect l="l" t="t" r="r" b="b"/>
            <a:pathLst>
              <a:path w="528" h="624">
                <a:moveTo>
                  <a:pt x="0" y="624"/>
                </a:moveTo>
                <a:cubicBezTo>
                  <a:pt x="30" y="578"/>
                  <a:pt x="92" y="451"/>
                  <a:pt x="180" y="347"/>
                </a:cubicBezTo>
                <a:cubicBezTo>
                  <a:pt x="268" y="243"/>
                  <a:pt x="456" y="72"/>
                  <a:pt x="528" y="0"/>
                </a:cubicBezTo>
              </a:path>
            </a:pathLst>
          </a:custGeom>
          <a:noFill/>
          <a:ln w="76320">
            <a:solidFill>
              <a:srgbClr val="0000a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57600" y="3505320"/>
            <a:ext cx="1371600" cy="520560"/>
          </a:xfrm>
          <a:custGeom>
            <a:avLst/>
            <a:gdLst/>
            <a:ahLst/>
            <a:rect l="l" t="t" r="r" b="b"/>
            <a:pathLst>
              <a:path w="864" h="328">
                <a:moveTo>
                  <a:pt x="864" y="0"/>
                </a:moveTo>
                <a:cubicBezTo>
                  <a:pt x="768" y="124"/>
                  <a:pt x="672" y="248"/>
                  <a:pt x="528" y="288"/>
                </a:cubicBezTo>
                <a:cubicBezTo>
                  <a:pt x="384" y="328"/>
                  <a:pt x="88" y="248"/>
                  <a:pt x="0" y="24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21138600">
            <a:off x="4343040" y="3809520"/>
            <a:ext cx="1371600" cy="520920"/>
          </a:xfrm>
          <a:custGeom>
            <a:avLst/>
            <a:gdLst/>
            <a:ahLst/>
            <a:rect l="l" t="t" r="r" b="b"/>
            <a:pathLst>
              <a:path w="864" h="328">
                <a:moveTo>
                  <a:pt x="864" y="0"/>
                </a:moveTo>
                <a:cubicBezTo>
                  <a:pt x="768" y="124"/>
                  <a:pt x="672" y="248"/>
                  <a:pt x="528" y="288"/>
                </a:cubicBezTo>
                <a:cubicBezTo>
                  <a:pt x="384" y="328"/>
                  <a:pt x="88" y="248"/>
                  <a:pt x="0" y="24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00400" y="3048120"/>
            <a:ext cx="1371600" cy="520560"/>
          </a:xfrm>
          <a:custGeom>
            <a:avLst/>
            <a:gdLst/>
            <a:ahLst/>
            <a:rect l="l" t="t" r="r" b="b"/>
            <a:pathLst>
              <a:path w="864" h="328">
                <a:moveTo>
                  <a:pt x="864" y="0"/>
                </a:moveTo>
                <a:cubicBezTo>
                  <a:pt x="768" y="124"/>
                  <a:pt x="672" y="248"/>
                  <a:pt x="528" y="288"/>
                </a:cubicBezTo>
                <a:cubicBezTo>
                  <a:pt x="384" y="328"/>
                  <a:pt x="88" y="248"/>
                  <a:pt x="0" y="24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 rot="1520400">
            <a:off x="2895120" y="837720"/>
            <a:ext cx="1125720" cy="4287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5"/>
          <a:stretch/>
        </p:blipFill>
        <p:spPr>
          <a:xfrm rot="1954200">
            <a:off x="1600200" y="2133720"/>
            <a:ext cx="1143000" cy="4284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 rot="20845800">
            <a:off x="5562360" y="3886200"/>
            <a:ext cx="1371600" cy="520560"/>
          </a:xfrm>
          <a:custGeom>
            <a:avLst/>
            <a:gdLst/>
            <a:ahLst/>
            <a:rect l="l" t="t" r="r" b="b"/>
            <a:pathLst>
              <a:path w="864" h="328">
                <a:moveTo>
                  <a:pt x="864" y="0"/>
                </a:moveTo>
                <a:cubicBezTo>
                  <a:pt x="768" y="124"/>
                  <a:pt x="672" y="248"/>
                  <a:pt x="528" y="288"/>
                </a:cubicBezTo>
                <a:cubicBezTo>
                  <a:pt x="384" y="328"/>
                  <a:pt x="88" y="248"/>
                  <a:pt x="0" y="24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62320" y="736560"/>
            <a:ext cx="1203480" cy="1081080"/>
          </a:xfrm>
          <a:custGeom>
            <a:avLst/>
            <a:gdLst/>
            <a:ahLst/>
            <a:rect l="l" t="t" r="r" b="b"/>
            <a:pathLst>
              <a:path w="758" h="681">
                <a:moveTo>
                  <a:pt x="758" y="0"/>
                </a:moveTo>
                <a:cubicBezTo>
                  <a:pt x="653" y="82"/>
                  <a:pt x="244" y="381"/>
                  <a:pt x="122" y="494"/>
                </a:cubicBezTo>
                <a:cubicBezTo>
                  <a:pt x="0" y="607"/>
                  <a:pt x="45" y="642"/>
                  <a:pt x="25" y="681"/>
                </a:cubicBezTo>
              </a:path>
            </a:pathLst>
          </a:custGeom>
          <a:noFill/>
          <a:ln w="76320">
            <a:solidFill>
              <a:srgbClr val="0000a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838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0" y="624"/>
                </a:moveTo>
                <a:cubicBezTo>
                  <a:pt x="40" y="628"/>
                  <a:pt x="80" y="632"/>
                  <a:pt x="144" y="576"/>
                </a:cubicBezTo>
                <a:cubicBezTo>
                  <a:pt x="208" y="520"/>
                  <a:pt x="288" y="384"/>
                  <a:pt x="384" y="288"/>
                </a:cubicBezTo>
                <a:cubicBezTo>
                  <a:pt x="480" y="192"/>
                  <a:pt x="664" y="48"/>
                  <a:pt x="720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733920" y="1816200"/>
            <a:ext cx="914400" cy="164880"/>
          </a:xfrm>
          <a:custGeom>
            <a:avLst/>
            <a:gdLst/>
            <a:ahLst/>
            <a:rect l="l" t="t" r="r" b="b"/>
            <a:pathLst>
              <a:path w="576" h="104">
                <a:moveTo>
                  <a:pt x="0" y="56"/>
                </a:moveTo>
                <a:cubicBezTo>
                  <a:pt x="96" y="28"/>
                  <a:pt x="192" y="0"/>
                  <a:pt x="288" y="8"/>
                </a:cubicBezTo>
                <a:cubicBezTo>
                  <a:pt x="384" y="16"/>
                  <a:pt x="528" y="88"/>
                  <a:pt x="576" y="104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20678400">
            <a:off x="4267080" y="2286000"/>
            <a:ext cx="914400" cy="165240"/>
          </a:xfrm>
          <a:custGeom>
            <a:avLst/>
            <a:gdLst/>
            <a:ahLst/>
            <a:rect l="l" t="t" r="r" b="b"/>
            <a:pathLst>
              <a:path w="576" h="104">
                <a:moveTo>
                  <a:pt x="0" y="56"/>
                </a:moveTo>
                <a:cubicBezTo>
                  <a:pt x="96" y="28"/>
                  <a:pt x="192" y="0"/>
                  <a:pt x="288" y="8"/>
                </a:cubicBezTo>
                <a:cubicBezTo>
                  <a:pt x="384" y="16"/>
                  <a:pt x="528" y="88"/>
                  <a:pt x="576" y="104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19686000">
            <a:off x="4952880" y="2438280"/>
            <a:ext cx="914400" cy="165240"/>
          </a:xfrm>
          <a:custGeom>
            <a:avLst/>
            <a:gdLst/>
            <a:ahLst/>
            <a:rect l="l" t="t" r="r" b="b"/>
            <a:pathLst>
              <a:path w="576" h="104">
                <a:moveTo>
                  <a:pt x="0" y="56"/>
                </a:moveTo>
                <a:cubicBezTo>
                  <a:pt x="96" y="28"/>
                  <a:pt x="192" y="0"/>
                  <a:pt x="288" y="8"/>
                </a:cubicBezTo>
                <a:cubicBezTo>
                  <a:pt x="384" y="16"/>
                  <a:pt x="528" y="88"/>
                  <a:pt x="576" y="104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rot="20071200">
            <a:off x="5714640" y="2362320"/>
            <a:ext cx="914400" cy="164880"/>
          </a:xfrm>
          <a:custGeom>
            <a:avLst/>
            <a:gdLst/>
            <a:ahLst/>
            <a:rect l="l" t="t" r="r" b="b"/>
            <a:pathLst>
              <a:path w="576" h="104">
                <a:moveTo>
                  <a:pt x="0" y="56"/>
                </a:moveTo>
                <a:cubicBezTo>
                  <a:pt x="96" y="28"/>
                  <a:pt x="192" y="0"/>
                  <a:pt x="288" y="8"/>
                </a:cubicBezTo>
                <a:cubicBezTo>
                  <a:pt x="384" y="16"/>
                  <a:pt x="528" y="88"/>
                  <a:pt x="576" y="104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952880" y="355680"/>
            <a:ext cx="914400" cy="406440"/>
          </a:xfrm>
          <a:custGeom>
            <a:avLst/>
            <a:gdLst/>
            <a:ahLst/>
            <a:rect l="l" t="t" r="r" b="b"/>
            <a:pathLst>
              <a:path w="576" h="256">
                <a:moveTo>
                  <a:pt x="0" y="256"/>
                </a:moveTo>
                <a:cubicBezTo>
                  <a:pt x="32" y="204"/>
                  <a:pt x="64" y="152"/>
                  <a:pt x="144" y="112"/>
                </a:cubicBezTo>
                <a:cubicBezTo>
                  <a:pt x="224" y="72"/>
                  <a:pt x="408" y="32"/>
                  <a:pt x="480" y="16"/>
                </a:cubicBezTo>
                <a:cubicBezTo>
                  <a:pt x="552" y="0"/>
                  <a:pt x="560" y="16"/>
                  <a:pt x="576" y="16"/>
                </a:cubicBezTo>
              </a:path>
            </a:pathLst>
          </a:custGeom>
          <a:noFill/>
          <a:ln w="76320">
            <a:solidFill>
              <a:srgbClr val="0000a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181480" y="457200"/>
            <a:ext cx="812880" cy="228600"/>
          </a:xfrm>
          <a:custGeom>
            <a:avLst/>
            <a:gdLst/>
            <a:ahLst/>
            <a:rect l="l" t="t" r="r" b="b"/>
            <a:pathLst>
              <a:path w="464" h="144">
                <a:moveTo>
                  <a:pt x="432" y="0"/>
                </a:moveTo>
                <a:cubicBezTo>
                  <a:pt x="448" y="16"/>
                  <a:pt x="464" y="32"/>
                  <a:pt x="432" y="48"/>
                </a:cubicBezTo>
                <a:cubicBezTo>
                  <a:pt x="400" y="64"/>
                  <a:pt x="312" y="80"/>
                  <a:pt x="240" y="96"/>
                </a:cubicBezTo>
                <a:cubicBezTo>
                  <a:pt x="168" y="112"/>
                  <a:pt x="40" y="136"/>
                  <a:pt x="0" y="144"/>
                </a:cubicBezTo>
              </a:path>
            </a:pathLst>
          </a:custGeom>
          <a:solidFill>
            <a:srgbClr val="0000a4"/>
          </a:solidFill>
          <a:ln w="76320">
            <a:solidFill>
              <a:srgbClr val="0000a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21368400">
            <a:off x="4723920" y="1219320"/>
            <a:ext cx="914400" cy="330120"/>
          </a:xfrm>
          <a:custGeom>
            <a:avLst/>
            <a:gdLst/>
            <a:ahLst/>
            <a:rect l="l" t="t" r="r" b="b"/>
            <a:pathLst>
              <a:path w="576" h="208">
                <a:moveTo>
                  <a:pt x="576" y="0"/>
                </a:moveTo>
                <a:cubicBezTo>
                  <a:pt x="560" y="32"/>
                  <a:pt x="544" y="64"/>
                  <a:pt x="480" y="96"/>
                </a:cubicBezTo>
                <a:cubicBezTo>
                  <a:pt x="416" y="128"/>
                  <a:pt x="272" y="176"/>
                  <a:pt x="192" y="192"/>
                </a:cubicBezTo>
                <a:cubicBezTo>
                  <a:pt x="112" y="208"/>
                  <a:pt x="32" y="192"/>
                  <a:pt x="0" y="192"/>
                </a:cubicBezTo>
              </a:path>
            </a:pathLst>
          </a:custGeom>
          <a:noFill/>
          <a:ln w="76320">
            <a:solidFill>
              <a:srgbClr val="0000a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630760" y="1155600"/>
            <a:ext cx="768600" cy="584280"/>
          </a:xfrm>
          <a:custGeom>
            <a:avLst/>
            <a:gdLst/>
            <a:ahLst/>
            <a:rect l="l" t="t" r="r" b="b"/>
            <a:pathLst>
              <a:path w="484" h="368">
                <a:moveTo>
                  <a:pt x="484" y="0"/>
                </a:moveTo>
                <a:cubicBezTo>
                  <a:pt x="479" y="36"/>
                  <a:pt x="471" y="68"/>
                  <a:pt x="424" y="122"/>
                </a:cubicBezTo>
                <a:cubicBezTo>
                  <a:pt x="377" y="176"/>
                  <a:pt x="272" y="286"/>
                  <a:pt x="201" y="327"/>
                </a:cubicBezTo>
                <a:cubicBezTo>
                  <a:pt x="130" y="368"/>
                  <a:pt x="42" y="360"/>
                  <a:pt x="0" y="368"/>
                </a:cubicBezTo>
              </a:path>
            </a:pathLst>
          </a:custGeom>
          <a:noFill/>
          <a:ln w="76320">
            <a:solidFill>
              <a:srgbClr val="0000a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59480" y="979560"/>
            <a:ext cx="420840" cy="741240"/>
          </a:xfrm>
          <a:custGeom>
            <a:avLst/>
            <a:gdLst/>
            <a:ahLst/>
            <a:rect l="l" t="t" r="r" b="b"/>
            <a:pathLst>
              <a:path w="265" h="467">
                <a:moveTo>
                  <a:pt x="240" y="0"/>
                </a:moveTo>
                <a:cubicBezTo>
                  <a:pt x="243" y="24"/>
                  <a:pt x="265" y="88"/>
                  <a:pt x="255" y="146"/>
                </a:cubicBezTo>
                <a:cubicBezTo>
                  <a:pt x="245" y="204"/>
                  <a:pt x="222" y="295"/>
                  <a:pt x="180" y="348"/>
                </a:cubicBezTo>
                <a:cubicBezTo>
                  <a:pt x="138" y="401"/>
                  <a:pt x="37" y="442"/>
                  <a:pt x="0" y="467"/>
                </a:cubicBezTo>
              </a:path>
            </a:pathLst>
          </a:custGeom>
          <a:noFill/>
          <a:ln w="76320">
            <a:solidFill>
              <a:srgbClr val="0000a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6" name="breeze.wav"/>
      </p:stSnd>
    </p:sndAc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0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5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8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4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0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3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6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at are the Global winds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67849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 = hot air rises at the equ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 = between 0 - 3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      blow from east to w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 =between 30 - 6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    blow from ____ to e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 = between 60 - 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   blow from east to w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10280" y="1828800"/>
            <a:ext cx="1600200" cy="3505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934320" y="2590920"/>
            <a:ext cx="17524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ldr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dewi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sterl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sterl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is an Atmosphere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 mixture of gases that surrounds a pla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2743200"/>
            <a:ext cx="4800600" cy="3666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800600" y="2819520"/>
            <a:ext cx="4343400" cy="3016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4" name="breeze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941c"/>
                </a:solidFill>
                <a:latin typeface="Arial"/>
              </a:rPr>
              <a:t>Summarize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327672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941c"/>
                </a:solidFill>
                <a:latin typeface="Arial"/>
              </a:rPr>
              <a:t>Please Draw &amp; labe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______develops during the day due to uneven heating of land and water; wind moves from water to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_______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s at night due to uneven heating of land and water; wind moves from land to 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3581280" y="1676520"/>
            <a:ext cx="6782040" cy="54100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838080" y="762120"/>
            <a:ext cx="7772400" cy="4269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4"/>
          <a:stretch/>
        </p:blipFill>
        <p:spPr>
          <a:xfrm>
            <a:off x="6248520" y="0"/>
            <a:ext cx="1143000" cy="8715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7924680" y="6095880"/>
            <a:ext cx="19814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534520" y="5029200"/>
            <a:ext cx="19810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763120" y="4038480"/>
            <a:ext cx="19810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534520" y="2743200"/>
            <a:ext cx="19810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696080" y="1676520"/>
            <a:ext cx="19814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924680" y="1828800"/>
            <a:ext cx="198144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391520" y="2057400"/>
            <a:ext cx="17524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a bree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terl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sterl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d bree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ev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dewi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410080" y="32004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486400" y="4572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38098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410080" y="53341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562720" y="2057400"/>
            <a:ext cx="1676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562720" y="6324480"/>
            <a:ext cx="16761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5" name="breeze.wav"/>
      </p:stSnd>
    </p:sndAc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opic: Atmosphere Issues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know what smog and how it is ca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know the current state of our ozone lay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understand how our oxygen rich atmosphere for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Smog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9372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og is a type of pollutant that affects our atm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smog made of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Generally smog is made up of pollutants from our car exhaust and industry pol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usually unburned hydrocarbons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trogen oxid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pollutants mix with oxygen to and sunlight to create a brown L.A. type of smo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32880" y="30492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auses of Smo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331" name="" descr="smokestacks"/>
          <p:cNvPicPr/>
          <p:nvPr/>
        </p:nvPicPr>
        <p:blipFill>
          <a:blip r:embed="rId2"/>
          <a:stretch/>
        </p:blipFill>
        <p:spPr>
          <a:xfrm>
            <a:off x="0" y="2209680"/>
            <a:ext cx="4648320" cy="32734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4343400" y="2209680"/>
            <a:ext cx="4800600" cy="329256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666880" cy="2328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5" name="breeze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753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3" name="breeze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3" name="breeze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4991040" y="2209680"/>
            <a:ext cx="4152960" cy="464832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6095880" y="0"/>
            <a:ext cx="3048120" cy="228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mog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tting wor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 bett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4" name="breeze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is Smog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6099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ir pollutants from our ___ exhaust and industry pol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1371600" y="1224000"/>
            <a:ext cx="7772400" cy="4269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43000" cy="87012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4"/>
          <a:stretch/>
        </p:blipFill>
        <p:spPr>
          <a:xfrm>
            <a:off x="533520" y="2857680"/>
            <a:ext cx="2971800" cy="259524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5"/>
          <a:stretch/>
        </p:blipFill>
        <p:spPr>
          <a:xfrm>
            <a:off x="3733920" y="3352680"/>
            <a:ext cx="2971800" cy="17542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6934320" y="2209680"/>
            <a:ext cx="1600200" cy="160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0" y="1981080"/>
            <a:ext cx="17524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n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ltraviol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synthe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6" name="breeze.wav"/>
      </p:stSnd>
    </p:sndAc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mog and Ozon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540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component of smog is oz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zone is generally considered a beneficial thing because it helps protect us from the sun’s deadly 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ever, ozone should be high in our atmosphere, in the strat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fortunately, ozone makes up smog and is very damaging to our lungs and pl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Arial"/>
              </a:rPr>
              <a:t>Ozone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(O</a:t>
            </a:r>
            <a:r>
              <a:rPr b="0" lang="en-US" sz="4400" spc="-1" strike="noStrike" baseline="-25000">
                <a:solidFill>
                  <a:srgbClr val="ffcc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)</a:t>
            </a:r>
            <a:r>
              <a:rPr b="0" lang="en-US" sz="5400" spc="-1" strike="noStrike">
                <a:solidFill>
                  <a:srgbClr val="b7e7ff"/>
                </a:solidFill>
                <a:latin typeface="Arial"/>
              </a:rPr>
              <a:t> -- Good or Bad?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419720" cy="38070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0" y="1752480"/>
            <a:ext cx="4419720" cy="37911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0" y="5562720"/>
            <a:ext cx="4419720" cy="1295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d Ozone is found in smo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can scar our lungs if w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eathe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724280" y="5562720"/>
            <a:ext cx="4419720" cy="1295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Ozone is found up high 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r atmosphere in the ozone lay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protects us from the sun’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mful UV ray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4" name="breez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tmosphere Composi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45752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a breath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uch oxygen did you just take i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other gases did you inha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time you breathe, you take in about a 21% oxygen and 79% Nitro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gases include very small amounts include: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rgon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ater vapor, carbon dioxide, methane, and hydrogen, and sm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image: pie chart showing that air is made up of nitrogen (78%), oxygen (21%) and other gases (1%)"/>
          <p:cNvPicPr/>
          <p:nvPr/>
        </p:nvPicPr>
        <p:blipFill>
          <a:blip r:embed="rId2"/>
          <a:stretch/>
        </p:blipFill>
        <p:spPr>
          <a:xfrm>
            <a:off x="4495680" y="144792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3" name="breeze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-1600560" y="38088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Formation of 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tratospheric Ozon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1946160"/>
            <a:ext cx="5029200" cy="491184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5257800" y="838080"/>
            <a:ext cx="3657600" cy="234180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5334120" y="32004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5" name="breeze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-990720" y="380880"/>
            <a:ext cx="851076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Holes in the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zone Layer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" y="1600200"/>
            <a:ext cx="716292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Pollution and a chemical called CFC’s have created holes in the ozone lay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FC’s are a chemical released from aerosol spray ca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This allows for more ultraviolet (UV) radiation to pass through our atmosphe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As a result skin cancer and other health problems have increas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is the Ozone Layer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8991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layer made up of 3 oxygen atoms (O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) is protects us from harmful _____ solar radiation (energ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ollution and  CFC’s have created holes in the ozone l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1371600" y="1224000"/>
            <a:ext cx="7772400" cy="42696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43000" cy="8701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80880" y="4191120"/>
            <a:ext cx="1600200" cy="160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04920" y="3962520"/>
            <a:ext cx="17524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n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ltraviol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synthe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5334120" y="32767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5"/>
          <a:stretch/>
        </p:blipFill>
        <p:spPr>
          <a:xfrm>
            <a:off x="2133720" y="3200400"/>
            <a:ext cx="303516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6" name="breeze.wav"/>
      </p:stSnd>
    </p:sndAc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xygen in our Atmosphe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(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) Oxygen is produced by Plants and microscopic algae called Phytoplankt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rough Photosynthesis, these organisms release free oxygen into our atmosphere 2.3 billion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hytoplankton and cynanobacteria released free oxygen into our atm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Where does Oxygen in our Atmosphere come from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56419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(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) Oxygen is produced by microscopic algae called Phytoplankton and cyanobac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rough_____, these organisms release free oxygen into our atm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0" y="2286000"/>
            <a:ext cx="1600200" cy="160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781680" y="2057400"/>
            <a:ext cx="1752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n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ltraviol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synthe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67053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162920" y="1905120"/>
            <a:ext cx="1752480" cy="228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162920" y="1905120"/>
            <a:ext cx="1868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o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04920" y="1066680"/>
            <a:ext cx="69339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Good ozone is found high up in the 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ad ozone is found in ____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____ in our ozone layer are caused by air pol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Our _____ rich atmosphere formed ___billion years ago through photosynthesis from phytoplankton and cyanobacteria 2.3 billion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reeze.wav"/>
      </p:stSnd>
    </p:sndAc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What Gases make up Earth’s Atmosphere?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727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Earth atmosphere is made up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____ % Nitrogen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____% Oxyg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% argon, carbon dioxide(CO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), water vapor, hydrogen and meth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066680" y="838080"/>
            <a:ext cx="7772400" cy="427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943600" y="5638680"/>
            <a:ext cx="1262160" cy="962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162920" y="1828800"/>
            <a:ext cx="1676160" cy="1219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086600" y="1523880"/>
            <a:ext cx="17524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4" name="breeze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ir Pressu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1295280"/>
            <a:ext cx="4498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vity keeps our atmosphere and air from drifting out into spac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k of it as the weight of the air pushing down on u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do you think air pressure is greatest, at sea level, or high up on the top of a mountian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780080" y="1295280"/>
            <a:ext cx="4363920" cy="5562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3" name="breez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32880" y="-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at is Air Pressure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46479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eight of the air in the atmosphere pressing ____ on the Ear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371600" y="838080"/>
            <a:ext cx="7772400" cy="4273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828800" y="4952880"/>
            <a:ext cx="1676520" cy="1219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4648320"/>
            <a:ext cx="1752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780080" y="1295280"/>
            <a:ext cx="4363920" cy="5562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4" name="breeze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04812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048120" y="0"/>
            <a:ext cx="4800600" cy="13716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What are the 4 lay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of our atmosphe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419720"/>
            <a:ext cx="3505320" cy="2438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oposphere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-10 km high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tains our weathe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d 75% of our ai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air pressure is greatest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mperatures decreas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352680" y="5486400"/>
            <a:ext cx="819360" cy="652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3733920"/>
            <a:ext cx="3505320" cy="1981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atosphere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10- 50 km high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tains Ozone layer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bsorbs UV radiation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mperatures increas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3276720" y="4267080"/>
            <a:ext cx="819000" cy="652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2209680"/>
            <a:ext cx="3505320" cy="1752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sosphere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50- 85 km high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mperatures decreas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teors burn u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352680" y="2743200"/>
            <a:ext cx="819360" cy="6523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380880"/>
            <a:ext cx="35053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mosphere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85km up to spa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mperatures increase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pace shuttle exists he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3352680" y="1143000"/>
            <a:ext cx="819360" cy="652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7772400" y="5813280"/>
            <a:ext cx="1371600" cy="1044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8" name="breeze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7:08:59Z</dcterms:created>
  <dc:creator>Chavez High</dc:creator>
  <dc:description/>
  <dc:language>en-US</dc:language>
  <cp:lastModifiedBy>jfuller</cp:lastModifiedBy>
  <dcterms:modified xsi:type="dcterms:W3CDTF">2010-11-09T22:45:09Z</dcterms:modified>
  <cp:revision>139</cp:revision>
  <dc:subject/>
  <dc:title>Chapter 14 Atmosphere</dc:title>
</cp:coreProperties>
</file>